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B6D-407E-436D-898E-488274A0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CBF-0977-49AE-8435-48D2AC6E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C5D-8BD5-4EDD-A7F9-E497FE2D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1CD-00EF-4DF6-ADF3-846AE7D9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77C-41E5-4A73-9FF2-AF7F0EC2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D38-7597-437B-B677-C0EBACC0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DBA7-9425-4FA1-8955-1F997C10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18AA-930D-4BB6-99AA-07D4A32C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B58-A8E8-49AE-9127-FD510784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C9D-BA6E-4113-A08C-05854B16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FC1-B9E1-4D8B-BD50-036223B8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2CA-BB6C-438D-A654-4631532F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B523-F3BA-4B52-A332-FF42DF4F42C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0000"/>
                </a:solidFill>
                <a:latin typeface="Calibri"/>
              </a:rPr>
              <a:t>World Population Chang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pulation of the world grows according to two factors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rth r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ath r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The relationship between these two is called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tural incre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birth rate is higher than death rate there will be a positive natural increase and the population will gr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birth rate is lower than death rate there will be a negative natural increase and the population will f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birth rate and death rate are at a similar level the will be no natural incr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rth Rate - Death Rate = Natural In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actors Which Control Birth R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irth rat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an change for a number of reason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gh birth rates occur in countries where large families are needed so that the children can work at an early ag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milies often have large numbers of children so that will be someone around to look after the parents in their old ag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religions ban the use of contraception, meaning that the birth rate is harder to contro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actors Which Control Birth R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irth rat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all due to improvements in health care, meaning that children are more likely to survive into old ag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men in many countries, especially in MEDC's, tend to get married later and have children later, as they want to establish a career firs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education in the use of contraceptives has also helped to slow birth rat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some countries the birth rate has been artificially controlled by the law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ina is the best example of a country which has tried thi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actors Which Control Death R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ath ra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high in countries where there is poor health care, bad sanitation or insufficient fo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ily these are less developed countries that do not have the money or expertise to improve the situ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countries often have problems of dis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actors Which Control Death R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ath rat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primarily fall due to improvements in health care, including better access to it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clean water supply and better sanitation means that the threat of disease also diminis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3:42:29Z</dcterms:created>
  <dc:creator>Dell_02</dc:creator>
  <dc:description/>
  <dc:language>en-US</dc:language>
  <cp:lastModifiedBy>Dell_02</cp:lastModifiedBy>
  <dcterms:modified xsi:type="dcterms:W3CDTF">2011-01-25T03:49:57Z</dcterms:modified>
  <cp:revision>1</cp:revision>
  <dc:subject/>
  <dc:title>World Population Change</dc:title>
</cp:coreProperties>
</file>